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D1D-297B-4C57-975E-4CEDB0E3F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B325-24E9-4CCF-BCA0-1ED3B1B7C115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C64D-322B-4D17-8BE4-225262AA2460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074-CD45-4C39-A1BF-F5E3A959A958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E59-B7DF-4D23-A037-FF29FF51CD79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D92-D7A0-46A9-BBC0-25600DDED89B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F596-312D-4DF1-9CF9-49BAFF21DF4B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1DB9-EAF9-499F-A734-BB352CF6E0FD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D954-718D-47A4-97AA-7B3DBDA508A5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925B-7F25-4BAD-9C6D-05C1A0B6C1CE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472-674E-4D59-A715-FB6D10B55912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E898-BAB0-4310-AB90-8341DBC1BA78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6587-E4A3-40B0-B233-BF35F7D1C3A7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483F-B3C9-47FB-A906-2F36B0097CDD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D7EA-12C8-4018-8D94-CF242746C45D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4004-DE9C-435C-8B67-C756A5A82CB6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1E75-4520-4276-9094-CEC0A1FD846F}" type="slidenum">
              <a:rPr b="0" lang="en-US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5FA-108B-4AC9-A61F-9E044630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EAA-8438-45F6-9AAC-016985B0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DC8-064B-4B1E-90A6-922D4B63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73-74E6-4596-A9A3-AA138647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50F-BF4A-439A-9520-9532C4FA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1258-F43C-411E-9ADE-AC8AB6F9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114-2859-48F3-98C6-6700F19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030-BD5A-4A9F-859B-35C068E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9A05-98C2-4CAD-9706-9BBDCB17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69B3-816D-46E4-A16C-82EF2040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42F0-AC28-4ABA-AE1D-14AAA2E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B81-D780-4F17-BF47-52A43253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9A01-C0DF-425F-B612-E36EE81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0CA-FCCB-440E-86A1-38F0BB4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11C0-658E-4078-B89C-7FB6167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965-254C-4D33-A0FD-A4964CE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DB97-7B5C-4616-A216-A2485EAD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8CA-ED45-4916-999A-71B5E6C4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11F-3AF6-47C2-9CC6-7FBF1D4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22E-C82F-4DAF-87FC-A59E862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1A3-FC25-456F-891D-70C31A81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5D2A-46E7-4FCC-A3EC-40B266E3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412-AC49-4BFD-8D7D-051BCC0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F18-E3BC-4AF1-950F-2F06AE0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ADB-5878-4150-96A0-B8FAAD551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C402-DEE5-49B8-BB88-DA4FB825CDA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xo.typepad.com/blog/2004/12/amazing_tsunami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lendale-h.schools.nsw.edu.au/faculty_pages/ind_arts_web/bridgeweb/commentary.htm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endranath.tripod.com/Applets/Waves/Twave01/Twave01Applet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60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Tsunami</a:t>
            </a:r>
            <a:endParaRPr b="0" i="1" lang="en-US" sz="60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6" name="Picture 1028" descr="China_2002_wave_350"/>
          <p:cNvPicPr/>
          <p:nvPr/>
        </p:nvPicPr>
        <p:blipFill>
          <a:blip r:embed="rId2"/>
          <a:stretch/>
        </p:blipFill>
        <p:spPr>
          <a:xfrm>
            <a:off x="4510080" y="0"/>
            <a:ext cx="46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 Definitions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magnitude (size) of the maximum distance that the medium moves from the equilibrium position.  It is a measure of a wave’s energy.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 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6" name="Picture 4" descr="amplitude"/>
          <p:cNvPicPr/>
          <p:nvPr/>
        </p:nvPicPr>
        <p:blipFill>
          <a:blip r:embed="rId1"/>
          <a:stretch/>
        </p:blipFill>
        <p:spPr>
          <a:xfrm>
            <a:off x="609480" y="4687920"/>
            <a:ext cx="57150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(</a:t>
            </a:r>
            <a:r>
              <a:rPr b="0" i="1" lang="en-US" sz="3600" spc="-1" strike="noStrike">
                <a:solidFill>
                  <a:srgbClr val="fdfdfd"/>
                </a:solidFill>
                <a:latin typeface="Lucida Grande"/>
                <a:ea typeface="Times New Roman"/>
              </a:rPr>
              <a:t>λ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lambda) The distance between any 2 particles in phase 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8" name="Picture 1028" descr="wavelength"/>
          <p:cNvPicPr/>
          <p:nvPr/>
        </p:nvPicPr>
        <p:blipFill>
          <a:blip r:embed="rId1"/>
          <a:stretch/>
        </p:blipFill>
        <p:spPr>
          <a:xfrm>
            <a:off x="762120" y="3124080"/>
            <a:ext cx="66974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391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hase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wo particles which have the same velocities and displacements at any one time are said to be in phase. 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eriod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time for 1 complete vibration or the time to travel 1 wavelength (in seconds).  Symbol is T (it is a special time (t)).</a:t>
            </a: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 can be found by dividing time by the number of cycles.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2971800" y="4876920"/>
          <a:ext cx="182880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876920"/>
                    <a:ext cx="18288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number of waves per second (usually wave cycles or vibrations).  Symbol is ƒ.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It is also the inverse of the Period.</a:t>
            </a: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  ƒ = 1/T  or  T = 1/ƒ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he units of frequency are called </a:t>
            </a:r>
            <a:r>
              <a:rPr b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hertz (Hz)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, these are also 1/s.</a:t>
            </a:r>
            <a:br>
              <a:rPr sz="3600"/>
            </a:b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819520" y="2133720"/>
          <a:ext cx="153036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153036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7238880" cy="5639040"/>
          </a:xfrm>
          <a:prstGeom prst="rect">
            <a:avLst/>
          </a:prstGeom>
          <a:noFill/>
          <a:ln w="9360">
            <a:solidFill>
              <a:srgbClr val="fdfdf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Velocity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he speed and direction of the wave.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 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v = d (distance)/t (time)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also,  v = ƒ </a:t>
            </a:r>
            <a:r>
              <a:rPr b="0" i="1" lang="en-US" sz="3600" spc="-1" strike="noStrike">
                <a:solidFill>
                  <a:srgbClr val="fdfdfd"/>
                </a:solidFill>
                <a:latin typeface="Lucida Grande"/>
                <a:ea typeface="Times New Roman"/>
              </a:rPr>
              <a:t>λ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(units are m/s)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dfdfd"/>
                </a:solidFill>
                <a:latin typeface="Times New Roman"/>
              </a:rPr>
              <a:t>Home 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Read Pg.335-343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Pg. 341#’s 1-4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Pg.343#’s 1-3,5-7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1c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dfdfd"/>
                </a:solidFill>
                <a:latin typeface="Times New Roman"/>
              </a:rPr>
              <a:t>Tacoma Bridge Disaste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3200" spc="-1" strike="noStrike">
              <a:solidFill>
                <a:srgbClr val="fdfdfd"/>
              </a:solidFill>
              <a:latin typeface="Times New Roman"/>
            </a:endParaRPr>
          </a:p>
        </p:txBody>
      </p:sp>
      <p:pic>
        <p:nvPicPr>
          <p:cNvPr id="99" name="Picture 5" descr="tacomaan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9810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T.V. satellite signal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Radi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Ligh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Soun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Earth Quak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Microwav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Fibre optic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X-ray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dfdfd"/>
                </a:solidFill>
                <a:latin typeface="Times New Roman"/>
              </a:rPr>
              <a:t>Cancer treatmen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1" i="1" lang="en-US" sz="9600" spc="-1" strike="noStrike">
                <a:solidFill>
                  <a:srgbClr val="fdfdfd"/>
                </a:solidFill>
                <a:latin typeface="Comic Sans MS"/>
              </a:rPr>
              <a:t>Waves</a:t>
            </a:r>
            <a:endParaRPr b="0" lang="en-US" sz="9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525"/>
                </a:solidFill>
                <a:latin typeface="Comic Sans MS"/>
              </a:rPr>
              <a:t>  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a phenomenon by which energy travels as a result of vibrations or cyclic motions.</a:t>
            </a:r>
            <a:br>
              <a:rPr sz="3600"/>
            </a:b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 </a:t>
            </a:r>
            <a:br>
              <a:rPr sz="3600"/>
            </a:br>
            <a:r>
              <a:rPr b="0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Wave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Pulse 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– is a single ripple or disturbance.</a:t>
            </a:r>
            <a:br>
              <a:rPr sz="3600"/>
            </a:b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ypes of Waves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d2525"/>
                </a:solidFill>
                <a:latin typeface="Comic Sans MS"/>
                <a:ea typeface="Times New Roman"/>
              </a:rPr>
              <a:t> 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Electromagnetic waves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travel through space.  No medium or substance required.  Exhibit alternating electric and magnetic fields caused by vibrating electrons.</a:t>
            </a:r>
            <a:br>
              <a:rPr sz="3600"/>
            </a:b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s: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 microwave, radio  wave, light, x-ray</a:t>
            </a:r>
            <a:r>
              <a:rPr b="0" i="1" lang="en-US" sz="3600" spc="-1" strike="noStrike">
                <a:solidFill>
                  <a:srgbClr val="fdfdfd"/>
                </a:solidFill>
                <a:latin typeface="Times New Roman"/>
                <a:ea typeface="Times New Roman"/>
              </a:rPr>
              <a:t>                                 </a:t>
            </a:r>
            <a:endParaRPr b="0" i="1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2.</a:t>
            </a:r>
            <a:r>
              <a:rPr b="0" i="1" lang="en-US" sz="44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Mechanical waves</a:t>
            </a:r>
            <a:r>
              <a:rPr b="0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travel through matter. Energy travels but material doesn’t.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s: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water, sound &amp; waves that travel along a spring or rope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ypes of Mechanical Wave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1.</a:t>
            </a:r>
            <a:r>
              <a:rPr b="1" i="1" lang="en-US" sz="40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Transverse waves</a:t>
            </a:r>
            <a:r>
              <a:rPr b="0" i="1" lang="en-US" sz="40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mechanical waves in which the particles of the medium vibrate perpendicular to the direction of energy transfer. </a:t>
            </a:r>
            <a:endParaRPr b="0" i="1" lang="en-US" sz="4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563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: 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waves in a piano or guitar strings 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0" name="Picture 6" descr="transver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4572000"/>
            <a:ext cx="4190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2. </a:t>
            </a:r>
            <a:r>
              <a:rPr b="1" i="1" lang="en-US" sz="3600" spc="-1" strike="noStrike" u="sng">
                <a:solidFill>
                  <a:srgbClr val="fdfdfd"/>
                </a:solidFill>
                <a:uFillTx/>
                <a:latin typeface="Comic Sans MS"/>
                <a:ea typeface="Times New Roman"/>
              </a:rPr>
              <a:t>Longitudinal waves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– mechanical waves in which the particles of the medium vibrate parallel to the direction of energy transfer. 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4038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Example:</a:t>
            </a:r>
            <a:r>
              <a:rPr b="0" i="1" lang="en-US" sz="3600" spc="-1" strike="noStrike">
                <a:solidFill>
                  <a:srgbClr val="fdfdfd"/>
                </a:solidFill>
                <a:latin typeface="Comic Sans MS"/>
                <a:ea typeface="Times New Roman"/>
              </a:rPr>
              <a:t> sound waves</a:t>
            </a:r>
            <a:br>
              <a:rPr sz="3600"/>
            </a:b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3" name="Picture 5" descr="lw"/>
          <p:cNvPicPr/>
          <p:nvPr/>
        </p:nvPicPr>
        <p:blipFill>
          <a:blip r:embed="rId1"/>
          <a:stretch/>
        </p:blipFill>
        <p:spPr>
          <a:xfrm>
            <a:off x="228600" y="2971800"/>
            <a:ext cx="7315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22:29:05Z</dcterms:created>
  <dc:creator>Julie Franklin</dc:creator>
  <dc:description/>
  <dc:language>en-US</dc:language>
  <cp:lastModifiedBy>susan.watson</cp:lastModifiedBy>
  <dcterms:modified xsi:type="dcterms:W3CDTF">2009-12-08T22:54:18Z</dcterms:modified>
  <cp:revision>17</cp:revision>
  <dc:subject/>
  <dc:title>  Waves</dc:title>
</cp:coreProperties>
</file>